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4327-4E44-48B0-8CDF-21049AAD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32DD-8E4A-46F2-ABD3-0C2A1152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21D802-FFED-4FDB-AA6A-1B366D17F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CA90A1-39EF-4E9D-AE17-155FD693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A4E001-C529-4CBA-BA80-34F071868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7C8325-331E-49AE-BD17-98B2526F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6EE04B-1982-4D82-8685-E899082D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7F68E2-7434-47A8-986F-60A99362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5BC18-831D-487D-987B-4F5A41B1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4DD78-4A74-4CE5-B0DF-34568E22E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7B5B0-1053-492B-AB64-18AD5BF5B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932B2-C49B-4A2D-9D04-0D7FDB7E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7984-D337-4E61-8D37-EEFD617A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BDF7A-F3F6-4FEE-A48E-81667219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B58FC-0FCE-4C40-BCB6-87E9FE21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F3147-6633-4FB3-B2AD-ECCB8316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C61DB2-1A40-45E3-916F-F0401329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8C805-38DD-42F3-BCE9-1AAB08D8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7FCD9B-82FD-432C-8FC6-1C15E1A2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E1DD5-72A1-4551-BC11-8684A576D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C95B2F-979F-4350-B994-0AF9472AE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8B0781-86D4-47A6-B58D-A8688F3B3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3373E5-0612-43D3-AA3D-7D5BE5BFE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D965-F020-47A5-B34F-5F3C70B8C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2925DF-174A-43EC-B1F4-E5EFEF0E7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73349-D5AA-48D2-9D4F-EDFD39327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ECB75-5CBA-44E5-BB6A-E00C911C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17D98A-37D5-49CD-BDA1-5AD41927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31168F-7ABE-4BE6-B0D1-083E9F32C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3B9554-6EA8-4424-B259-9457FBEF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2375B-D5B9-4EAE-8EBD-11E02BB0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C53A9-F89D-47B8-B957-806EB9445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06FE9-93A7-455B-8336-F01108C1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69332-A634-4FCF-B9B7-AC98FFCA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EA20B-C8A9-4CE6-A46B-9C1443CC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BA646A-97EB-4CE1-8EB8-1E27FB36B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B6055F-9724-4DAA-BE28-525EB93A5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DE83A-289A-441E-B1C5-1F7320A1C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51303E-12C8-48AF-8900-DD1943D3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A0A65-E622-4738-873E-C164E8E23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CB6654-F36D-45C3-A06A-203251D0B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9C4BC-41A4-481D-AE70-7589266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20933F-420C-41A0-BE2D-C6B630C6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51C07-9766-4B3D-8A43-E2A22BE9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AF54CA-0150-4EEA-BA61-32719DA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46132-5351-4BC8-8EC0-855BC799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C6DA4F-22E8-44D8-8B6C-243EBFDB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AF5D1-B9A3-4FE2-96EB-9D968890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982BD4-A5BF-419E-B66C-1DB8975B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43B58-1151-4B41-BB23-5EA431592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B0FFBB-6469-48F7-9BD5-7E9E6112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9FCCF7-3532-46CA-A7E9-F3C8752A0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336434-2F3C-4E88-87E4-E665D43C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56A77-8328-4D46-BEF5-EC45C970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1A3166-EA5C-4F06-AAC9-7A97B5B1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5BE964-E565-4B59-A56A-F2AE5392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F013C-E498-48F1-BC5E-8E684C7D6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89FD00-A0CB-448B-AA82-99C586D8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508701-0FC7-428E-8483-3865838A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4B2A7A-1FDC-497E-8C68-83EDAF01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BF0D7A-7403-43AD-AC42-E333940A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220EB2-2F9A-4BD5-94D1-4B4BA7DF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D0FCE1-E1A9-45E8-859D-94BABC49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9A2F75-68CB-4B18-BF43-9C2C1412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2E735C-EB8D-4367-9118-6069D6D90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2F0904-17DC-4945-83D2-985F8ADB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7911A6-7140-4D10-A0A3-A9A6E60A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DA6F-4577-40AC-9657-AB33CA23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934FA-7B29-409A-B5BF-E8A624DB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6757D3-0036-4E77-ABDC-B76B2DDC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D5362A-3BA7-4460-818B-F04F2EF1D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DDF852-E28F-4D6C-84AC-A3F87BF0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8F194B-76AB-4348-9E9A-7B0C409F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910744-FB08-439B-B5DD-44E9569D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4DA3A-3F24-4AC0-8F8C-61F3F66B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A3CD95-B4FC-41CC-8272-70FC4FB94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C192E1-0966-4D95-8E2D-74798822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48ED92-F99E-4235-926E-C5DC2323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86FF-BE6C-44CD-B869-5414ECEE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FC5C5-3569-4503-BBAA-101343D8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1EA841-8C3E-45F0-8E60-2C936FCF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55E9F5-D453-4BF9-A018-10DD0A35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C6E36F-1707-4CC2-81F3-7EFCCF8CA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F6AC4A-5471-430C-89BE-8C5B3D9DD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1AD007-70C6-4829-9F6C-31F63094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6BB2BC-A415-4049-A5F4-FF37FE01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226109-A9CA-4113-BA6A-1E3DA687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A43AB-0075-415B-A2B4-1711DA54B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60906-F13E-40EC-A503-EF8AE16AF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0BE91-54CA-41AE-998F-05252037B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E8C542-1E28-453C-AEAB-E2861FB8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23C23C-2081-4690-A78E-E8F8D4CB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374CB2-5891-4137-A714-264C62C0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695C57-F738-497F-BF65-A6549089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BA91EB-2ED6-4923-A71B-46DD8B1B2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B6E43C-28A6-4235-91BB-706D28CF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659FE0-F5FE-4AFA-9B3A-07C09BA9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75495D-A272-404C-8B3C-47E46883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300143-6FEB-41E5-826B-4BD34E00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93F419-E4B1-477D-91A6-976A6295A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730C-7F9F-46AE-B45C-2D94D838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429046-DC6E-4CC4-B2A1-84D09A98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2FB433-6444-4616-9BEB-42D51280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49B9D3-1825-43BF-B95D-C4606A09B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8C06C-4943-4EB0-99B9-426A061B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A4755B-F522-4315-B3A6-B298204F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62E587-1560-40F8-B9CE-2B1484FB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D65D7A-A57A-405A-88BC-DA3DC5BA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6BBEB-BBFE-4E1B-9746-C700F9D9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269621-CC2F-40FC-ADB8-9F25FB44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35C4FC-0826-4980-B99F-B727DFD22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CCD2-D5A4-49B6-A594-562FF8EA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39EE0-7708-4720-AE4E-9ED1F650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5C827D-3409-478B-A039-127A652A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7B5982-E5C0-49EE-AE1C-BB59AFDB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01D6FE-5FF7-47E0-8966-217ABCF2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8F175E-2BBA-4B1B-BACD-C972ED57A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F70EC2-2235-4B1E-9097-3FCFF315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94EFD1-C396-4046-8DDB-C3BD2DCAB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2A9223-8C5F-4F40-BDBA-FA9F1B88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CDF0FC-DF05-4302-952E-CA07CF90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9C5182-5F53-4819-9457-799E95166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063044-857B-44CC-B8B7-C02CF3D1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A63E-1060-4EE5-9306-56116FD2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7A7164-1F19-4FC3-9659-A3300317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4FC257-C600-4469-9214-4C624E8B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1565E3-F68B-4E08-AC0B-D8C9CE12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200122-3F6A-4EC9-9D5C-2D6376E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44D03A-0C02-4956-BBAA-D7FE9C057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CFF477-2C5E-4AB8-9D68-F2EBFDC22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4BD5F6-4D33-468E-B2EC-3D0234A27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1E963A-FE33-4031-9EF8-AEF7C62BA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D2097-C62D-4704-9DCD-A6392E33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0ABB86-B244-4C02-BDA7-91F4A859D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29A7-A4CD-47E1-A378-7A40A7EA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F137D0-0E10-4072-A6F1-49D608E2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C077DC-8A98-4B25-90E7-4A4052ABF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B75DDE-97A3-4605-8B2C-AD00D8C2C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AD69FF-267D-45C0-A58C-362F06A8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90BCA-2881-4748-AADA-7730876A8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B110E7-39AE-4B28-A19D-356E8EC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22298-3412-4D17-8139-DCDDC65E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58A2A3-8DDB-4A03-90BD-1DE8D4F16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F27717-970D-4345-9D7C-5EAD49F52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005334-EA5D-4F65-901E-5B42FDE7A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D4D99-80B1-42F8-81AB-AAB507AF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ADFC20-B95D-4A51-A80D-780A1D5C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6BF174-F6D7-4FF3-9E4F-682B232A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36A558-1D22-488A-AF1B-9AE38018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C2F5BD-D49A-44FD-BF9D-D0FC15E1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8E28A7-CAD0-4034-BD9F-C2066702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A43F76-ACFA-4758-BD66-2872B94B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68D055-45FE-413E-81A5-93C4ADCF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364859-A9FF-4CFB-A87C-7C6045B6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E7337A-0CB3-42B4-906B-2934B361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9A9AE6-3029-4F6C-8524-B7495CCA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FBC66-5EC1-4F0E-9201-B9CB5C73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B22D7D-8617-42F0-9968-49F2E75D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89039B-8091-4ABB-BF53-A8DF43B6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A95871-CE9D-454A-923F-0D94A6C4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15C190-764A-45C5-A8CA-C9F3CAF0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39FC08-5C9C-4AD1-BC52-8E54276F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7699A4-6113-437F-A824-213C6E39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1ED5F8-9B7C-4C0F-BAAE-54D92469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998787-8BC8-4616-AA94-5990E691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D2384-256D-4FE7-AB89-CBE3B3C5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5A464-BBB6-422F-AFCB-6B5EDB555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E06EE-4842-40D3-9BC1-D417FE27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842A8C-6E0B-4DC8-AC6B-3C156466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874DB-8AF5-4C91-858E-734B7DD76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2C85D-C72A-43A1-BF7B-E4F671AA8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0FDA2-0969-46D8-9069-0DF54F4C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649AB-7FB7-4FED-BCC7-6180C8F6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7141D-66F4-48EE-9790-A7EE2F11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532DD-57AC-4D2D-AF18-CB5043BE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53DF-399A-404E-B9E3-7C8F486D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77334-84AE-47AB-8D0A-FE8513E1A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BAEC-026E-4B6A-A2E0-0DD1B514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080A7-AC56-44E2-977B-D6EFA5F8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ADB7C-7172-4E62-9D6C-6E987FF0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F812E-7721-4414-A538-3B3A55BD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D8BB9-FD93-40C8-AAC6-7920CCC8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3C4B3-92CC-4160-B62F-B4755215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D8A10-477C-4514-9C63-BDF89212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83200-7866-4812-9C47-0AC4F230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7F2D4-2664-4246-A791-E8AA51D5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E74-150A-47AC-8A38-11CCF9C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F7CD0-8E86-49ED-9420-842C87E2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9C8A4-54C4-496A-9DB7-E9A7F13E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E1E30-0420-464B-8B59-A524010D2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D9E82-06FF-4D39-87B7-AB5BA7CA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95AD0-1C01-4967-BB11-079997D9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1B066-6F15-47C9-B7DA-A1296F824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88EE0-97F0-4163-AFB7-AFFF43711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14108-703A-4A9B-A8EB-F8249A64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9C44-7AD6-4A2D-B674-1A69F46E7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B32F0-0C1D-450A-B722-27953A0C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FAD-2DC7-4413-9D9B-84B52341C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BCC3F-AC76-4C00-84A2-0A7F74D2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D8CC7-1E10-40FA-9225-6313B768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30AA9-ED4D-413D-B235-D0D0E32C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0C504-1308-430C-A223-FF945782B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8A9B7-0C9A-4871-B320-A5A78F9A8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21AC6-F3BD-4AC4-BB8A-20FABB5E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FEA17A-16D3-4903-838C-2440ECC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7E0D-CB12-4E09-AD6B-7E75382A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8034D-2984-420E-B845-F5BA59CC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A17581-F091-4DDB-847B-6D3C02FB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DCFE-32D5-4BAF-A36F-5B9D34BC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CF00A-B5D0-412B-92EE-E1B04C41A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42284-A215-427F-A950-96D62F3EB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F81C4-5D4E-428E-A927-A6C55500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4DF70-ED04-4307-BFB3-6A8708AEE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CA0B3-682D-4AE1-9969-C2B66671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FF90-E3FA-41D1-BBB2-E940574B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777A48-57C7-42D3-84AD-7CAD1AFA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A85DA7-B9DF-49E0-9238-6FA34FD6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40D5A-2889-45E4-B028-B14C8F5B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08503-AD87-4168-9A83-C0C77C2A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7435-4596-4AF7-ABE6-7FCAE7C1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751B3-CE1A-49E8-9C64-0657A5E48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323BD-C691-4569-AF33-1BBAF43B0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CCA6D-E4BA-42BD-9C71-DFD8CADB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C62A6E-E07F-42D0-90AE-304AFE226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1F5FF4-8036-4F1A-87A1-37444EFE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6C6AF-3E30-49E6-A569-CCDA6B2E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06740-2935-415E-BD97-2A0295A56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4C62A-8DED-40D2-AB10-178A96AC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6C41A-1610-4509-B967-BE9D1B10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BA628-BE43-4D17-B8A6-69ABE384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E23-03D6-45BB-B406-CA9F20F3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D3D0D4-E7A1-4971-9D99-2664A121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F3B7F-E11F-4B6B-ABA5-DF6DD9F8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4C09C-6B85-494C-912A-74AAEB0A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0DCF1-6141-496D-9B2C-126DB16D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1D44E9-CCB3-4F0F-93A7-95B89B39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045A6-B37F-41D8-A3DD-121611167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BC60C-4FE8-4E99-859E-541BBF614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80A34-919E-4359-82E1-12803F79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50103-9F69-483B-8891-707989D4B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BD218-C6DD-45C0-99B4-5CDB8789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7667-CC91-43CB-891F-457F6E0E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B4E0A-BCFC-4D53-B94A-E901AE0A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B5382-7039-4096-B30F-2BDC0323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E9C9F-73E5-41DF-A894-D4741B94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F2BC5-57AA-4B55-9D75-51FFB00B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D1AA8E-1C89-40C1-A620-0E026224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A9A79-98BC-48FB-B2C8-35A83A3CD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6807F-15B1-4324-AF2F-1B3AD40F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61007C-5D32-453F-9759-E3AB5816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1809F-AE57-4CA0-9D94-B87CB4AA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145843-23BF-48AD-9661-BD07CE57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1481-17EE-4BF6-ACF6-1D06FA605A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AD41-CBE5-4C1F-9A5B-CF727190A56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D9C6-F332-4B4A-9E63-0CB71818F9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FF4C3-B6D5-4CD1-B321-4BF81772E4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3095-959C-4E02-8FD4-936261327C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063C-F3C4-406F-B644-A185747240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C43C-7D28-4825-8DAD-B29DAFC1F3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5394-04F8-4DB6-9FC3-F25CB536FB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25552-0D6B-4E80-9DA4-0FA61FD3EE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064F1-0387-4100-A761-567B6123CF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41FE-D1E7-4732-9FEE-97D1DD73E9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F354-965A-4B5A-9575-1C9E798F4D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16D0-DA98-4EA8-AC13-76055EB91E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7EB9-FC4A-4443-BC72-DACBD1B896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DB6E-7EFB-46FF-BD1B-AE5F4CF987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AD9B-F4C4-43D5-8B02-E7375BD33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5008-601A-430C-96C7-F6EC2BA1DB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5EC2-7C7F-466B-8248-B357F09A2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1265-3F70-4EFB-ACC2-77EC1044D5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4C3E-97F0-4318-9C5B-BE29CF20E0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97814-9C99-45A9-ACA0-4C3112D151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A2E42-5B29-4AC8-9795-271896101D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573C-A3CC-4423-894A-6A891041F7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ED76C-6818-4CDA-8E9C-D7E3DE8195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75EE-0FAC-4B33-B841-79EA7DD891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3513-9229-451D-8FE0-B896F3F9E3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FE50-A64E-4B74-BF7D-CC4602A945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D4A3-E206-4C18-B6FF-60037C1D851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406A-36BD-4405-ACE1-9A33E77F5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5A2F-B024-4BF3-BEE1-0B041E4E23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0AE1-D3FA-4093-9A40-D0B45F5E45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D46F-B075-495F-AC2F-D0E4ED3847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7954-4200-4D54-89A9-C7EE6599F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D43D-EB9C-4630-A482-B3E8A6DAB4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953D-1804-4DF6-AD96-024E2BF066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3CFC-DC3E-4CBF-A720-4913C6863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596D-5F70-4C3B-BFD1-593D4D6FC6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FF3D-B41C-4E25-9B35-63FD4D45D2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4D50-8142-4045-9620-8A449FB341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3575-A819-4E67-BDB7-779C2A5FA3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681120" y="3019320"/>
            <a:ext cx="77817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18960" y="866880"/>
            <a:ext cx="8506080" cy="5657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867280" y="2449440"/>
            <a:ext cx="2449800" cy="4795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940360" y="3184560"/>
            <a:ext cx="244944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4067280" y="4653000"/>
            <a:ext cx="4465440" cy="47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796000" y="6093000"/>
            <a:ext cx="2449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299880" y="880920"/>
            <a:ext cx="8544240" cy="5096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7885080" y="54021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7812000" y="2492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7885080" y="32986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7812000" y="3932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6"/>
          <a:stretch/>
        </p:blipFill>
        <p:spPr>
          <a:xfrm>
            <a:off x="7885080" y="473868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76801" descr=""/>
          <p:cNvPicPr/>
          <p:nvPr/>
        </p:nvPicPr>
        <p:blipFill>
          <a:blip r:embed="rId1"/>
          <a:stretch/>
        </p:blipFill>
        <p:spPr>
          <a:xfrm>
            <a:off x="471600" y="1533600"/>
            <a:ext cx="8200800" cy="37908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900000" y="465300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5075280" y="322740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4932360" y="394812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4932360" y="4667400"/>
            <a:ext cx="38163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843120" y="725400"/>
            <a:ext cx="7457760" cy="284796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58374" descr=""/>
          <p:cNvPicPr/>
          <p:nvPr/>
        </p:nvPicPr>
        <p:blipFill>
          <a:blip r:embed="rId2"/>
          <a:stretch/>
        </p:blipFill>
        <p:spPr>
          <a:xfrm>
            <a:off x="776160" y="3789360"/>
            <a:ext cx="7591680" cy="2924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826920" y="155736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826920" y="223344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826920" y="2924280"/>
            <a:ext cx="3240360" cy="4791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5148360" y="155736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5148360" y="223344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5148360" y="292428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9"/>
          <a:stretch/>
        </p:blipFill>
        <p:spPr>
          <a:xfrm>
            <a:off x="826920" y="433872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0"/>
          <a:stretch/>
        </p:blipFill>
        <p:spPr>
          <a:xfrm>
            <a:off x="826920" y="501480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1"/>
          <a:stretch/>
        </p:blipFill>
        <p:spPr>
          <a:xfrm>
            <a:off x="826920" y="5705640"/>
            <a:ext cx="3240360" cy="479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2"/>
          <a:stretch/>
        </p:blipFill>
        <p:spPr>
          <a:xfrm>
            <a:off x="826920" y="625140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3"/>
          <a:stretch/>
        </p:blipFill>
        <p:spPr>
          <a:xfrm>
            <a:off x="5046840" y="432432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4"/>
          <a:stretch/>
        </p:blipFill>
        <p:spPr>
          <a:xfrm>
            <a:off x="5046840" y="500076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5"/>
          <a:stretch/>
        </p:blipFill>
        <p:spPr>
          <a:xfrm>
            <a:off x="5046840" y="569124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6"/>
          <a:stretch/>
        </p:blipFill>
        <p:spPr>
          <a:xfrm>
            <a:off x="5046840" y="6237360"/>
            <a:ext cx="324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7352" descr=""/>
          <p:cNvPicPr/>
          <p:nvPr/>
        </p:nvPicPr>
        <p:blipFill>
          <a:blip r:embed="rId1"/>
          <a:stretch/>
        </p:blipFill>
        <p:spPr>
          <a:xfrm>
            <a:off x="257040" y="1133640"/>
            <a:ext cx="8629920" cy="45907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971640" y="3170160"/>
            <a:ext cx="468000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042920" y="3789360"/>
            <a:ext cx="4680000" cy="479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900000" y="4408560"/>
            <a:ext cx="4680000" cy="479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971640" y="5027760"/>
            <a:ext cx="79214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6324" descr=""/>
          <p:cNvPicPr/>
          <p:nvPr/>
        </p:nvPicPr>
        <p:blipFill>
          <a:blip r:embed="rId1"/>
          <a:stretch/>
        </p:blipFill>
        <p:spPr>
          <a:xfrm>
            <a:off x="299880" y="885960"/>
            <a:ext cx="8544240" cy="56386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826920" y="293832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826920" y="3573360"/>
            <a:ext cx="3816360" cy="4795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971640" y="4233960"/>
            <a:ext cx="3816360" cy="4791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971640" y="4869000"/>
            <a:ext cx="3816360" cy="47916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6"/>
          <a:stretch/>
        </p:blipFill>
        <p:spPr>
          <a:xfrm>
            <a:off x="971640" y="5459400"/>
            <a:ext cx="4105080" cy="47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7"/>
          <a:stretch/>
        </p:blipFill>
        <p:spPr>
          <a:xfrm>
            <a:off x="971640" y="6107040"/>
            <a:ext cx="4105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8" name="图片 55300" descr=""/>
          <p:cNvPicPr/>
          <p:nvPr/>
        </p:nvPicPr>
        <p:blipFill>
          <a:blip r:embed="rId1"/>
          <a:stretch/>
        </p:blipFill>
        <p:spPr>
          <a:xfrm>
            <a:off x="252360" y="266760"/>
            <a:ext cx="8639280" cy="63244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2"/>
          <a:stretch/>
        </p:blipFill>
        <p:spPr>
          <a:xfrm>
            <a:off x="2268360" y="4840200"/>
            <a:ext cx="93528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3"/>
          <a:stretch/>
        </p:blipFill>
        <p:spPr>
          <a:xfrm>
            <a:off x="2195640" y="5516640"/>
            <a:ext cx="934920" cy="47952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4"/>
          <a:stretch/>
        </p:blipFill>
        <p:spPr>
          <a:xfrm>
            <a:off x="2195640" y="6107040"/>
            <a:ext cx="9349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4276" descr=""/>
          <p:cNvPicPr/>
          <p:nvPr/>
        </p:nvPicPr>
        <p:blipFill>
          <a:blip r:embed="rId1"/>
          <a:stretch/>
        </p:blipFill>
        <p:spPr>
          <a:xfrm>
            <a:off x="1100160" y="1125360"/>
            <a:ext cx="6943680" cy="215280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54277" descr=""/>
          <p:cNvPicPr/>
          <p:nvPr/>
        </p:nvPicPr>
        <p:blipFill>
          <a:blip r:embed="rId2"/>
          <a:stretch/>
        </p:blipFill>
        <p:spPr>
          <a:xfrm>
            <a:off x="314280" y="3629160"/>
            <a:ext cx="8515440" cy="21049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4643280" y="1700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7496280" y="170028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4270320" y="221940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7510320" y="227664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7"/>
          <a:stretch/>
        </p:blipFill>
        <p:spPr>
          <a:xfrm>
            <a:off x="1820880" y="40910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8"/>
          <a:stretch/>
        </p:blipFill>
        <p:spPr>
          <a:xfrm>
            <a:off x="4657680" y="4149720"/>
            <a:ext cx="706320" cy="479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9"/>
          <a:stretch/>
        </p:blipFill>
        <p:spPr>
          <a:xfrm>
            <a:off x="8101080" y="4149720"/>
            <a:ext cx="706320" cy="47952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10"/>
          <a:stretch/>
        </p:blipFill>
        <p:spPr>
          <a:xfrm>
            <a:off x="1619280" y="4724280"/>
            <a:ext cx="706320" cy="4795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11"/>
          <a:stretch/>
        </p:blipFill>
        <p:spPr>
          <a:xfrm>
            <a:off x="4687920" y="4724280"/>
            <a:ext cx="706320" cy="4795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12"/>
          <a:stretch/>
        </p:blipFill>
        <p:spPr>
          <a:xfrm>
            <a:off x="8186760" y="4724280"/>
            <a:ext cx="70632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6:3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